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B648-BDF0-4DDA-A712-AB5E6D810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6783-0F2A-4E08-947E-7D87E3032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37D-A009-4574-A5AD-C3C9E2F5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F97-1B30-43D0-8753-9B1D9A3F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F78FC-F2A2-41F2-A87C-503833D0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73A2D-2BB6-4A61-8D87-5332E02D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514A8-7286-4A8A-9694-FC98EA88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99771-257F-432F-B7AB-7CA81606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ABA2A-BE66-4773-BC38-4FE2B2E4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F23AF-824F-43A3-97F5-240DA62F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EDE94-77DA-4446-A48D-6B7E4C1E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356BC-44B8-488D-BA75-84275760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81E8C-3C89-460E-BA54-91380718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A49B4D-5D6D-4FE4-8137-E114B54D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DB1-02C4-4163-AA44-DE459893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263878-7888-4FCA-8151-8BD18A1C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469A39-58CD-4970-9BBF-3761450A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2E7FEF-9187-4A99-9F8B-24F0CEDE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4AC391-C1FF-4525-A7BD-2604482D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2B9CD6-0736-4170-A100-AF49434A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E208DB-773C-4B7E-8BEE-7C90986A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B2B5AD-80F7-4974-9FEC-E03260A4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9B1055-8B03-426B-A055-E6F9EDC2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F401EC-A96F-4C5B-ABEC-530D2984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31A1F2-6DE9-4DAD-B3A4-69005A3A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D82-20F2-4C60-A2FB-9D3CB216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4341E5-9253-4265-A000-B05D6D06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173F7-4B98-49BB-A453-89BA1C41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CA580-2861-4B1C-999D-5682B0DE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493E5-ECFA-463F-B4B9-8A9FFC3F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8D424-E56D-44DA-87C0-6736F17C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2DEC3-9452-43E4-91FB-001241C4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22E38-2997-412E-919D-7A7CD6EC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CB6C2-3B21-48E6-AD2B-97AAFB6E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D9C61-90D6-4282-8EC0-B6ACE0EF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5705C-4065-4EC6-9334-75C3683B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FDC8-4BC2-4C7A-948A-13E804A7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14D26-BCA3-4A56-9131-708A1A5A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B5DAA-BB54-422E-82CC-011EDA9F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DD2E3-CFC5-4D6A-955E-0D0C8E33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25E8-7F9C-43B0-B323-A054E583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48B8-DDC3-40D1-8179-6824326E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72E2-DAFA-41A6-A91C-A4E81CE8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B244-73C2-4325-8DD4-9B0895CB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3875-BCCA-46DC-9D06-41972E99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BC20-7339-47AC-BBCC-485FCB08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80A-67EA-41BA-8C4C-81377C07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02E6-6607-4A4D-AE02-F94DD442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13DE-19D8-47D7-BD0E-B8D25ED3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6B8A-C237-43A7-9BBD-C6BF1B76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5939-F40D-4668-81AF-F92242FB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2E3F-AC36-40E4-878E-78A8CC84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C8A0F-28B6-4711-9198-0BDD4DE8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B27DB-2C78-4B75-B662-E1584ADC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32450-D1DA-4FF2-B79B-C0E26B9F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89A23-A14A-4530-AB6E-D94113CC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83967-64D9-40BE-AD15-4F13EA01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F94-CE35-4CA6-BDED-25B66D60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BEB7D-C4F8-4164-A313-6FBFE9C6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47A4B-9382-4D59-B045-880C59C8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4985-887C-4EB3-ADA4-81958119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987C-B45A-44E2-AE56-B0901F26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F530-2314-4474-BF1A-21843509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051E4-6DF9-4283-963D-D85A0BD5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72404-4667-4C63-91E3-E66BC645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5833FE-BAFF-4E3F-94CB-2DAE9E00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689378-98B3-4408-957A-D9C15091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A385EB-B87D-4BE2-95A9-295BA2BD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CBF-47F1-4E45-8B06-B55C1A94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111165-8C33-4D19-98ED-E2FBC70F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B0AE15-7D74-4A06-995F-0DEF1B43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0195A-E26F-45A7-9A98-3AFA2968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E771C3-189F-476E-8F7B-CD8F4BD7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DF6143-0B8A-4CFD-951C-E9B4D711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92404D-869E-4B29-9A4F-4390393B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86F500-3CB0-4A43-A2FC-E772CBD6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074705-35DD-4C72-8369-A36DBD28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EC287-0E2F-4F08-B1C1-17EA8849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6009B-90E7-4014-AE60-CF15822E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8A4-2D5F-4326-AB29-4E1AD864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4E048-7D3D-4BA3-973C-D65E4270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1E158-C7E4-4D94-88DC-26CA88D4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4C088-279A-47A2-94F6-D0127BB4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7050D-75A1-4AA9-B0DC-B11ABE92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4C101-7EA8-47F6-9438-65837AB7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2220FF-69E5-4FDE-8385-0ACCC71F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42CEAF-184E-4322-A55A-6952A0DA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CFD3A-E5DD-43E9-81BB-B85B2137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36E215-F141-4825-903A-F129432C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90315-6098-42A4-90A0-4D7E9AB9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AE0-A7E9-468E-9386-172DFEB0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F4AD3-3C2E-498D-B0CB-4449FB12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C7244-A548-4EBF-ABE0-B752BEEC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AB8C3-2460-478B-AC47-6DC9BE19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24ECF5-2D58-4FAA-A56C-0A19E128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FB80E2-E61E-4BC3-887C-83C4B699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61795-667E-41AD-BDFF-2F1444C1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E6D4FB-5ED2-435E-9032-0319D4DF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0DC477-B0B0-4814-90D3-C65B3D09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6D3B1-EE23-4572-81EE-FA0F1A49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FF104-F90A-400D-912C-6906A8E3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845-DF57-437F-A217-BEBCBC63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69B8DB-4064-49BB-BA23-FD370F6A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35F6E-5B58-4502-BC37-B73F694B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7D827-2CFC-4274-9139-CD855C8D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721E6-A741-485A-9B54-ECC195D3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E18A7-0B39-4535-8C25-925623F6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062A5-729D-40B9-9134-2B0CAD66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079B6-3116-4BFE-BBD4-30B147ED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E3042-645F-42D4-9A27-8D5AB451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CEBC0-E4AB-485B-A2AB-EF515156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608B7-FD8D-4F0B-8A4E-D978341F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602-0FF2-4626-A2AB-8540BAAF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C2213-7A42-4F42-BE33-373C2125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F5494-DE06-48B4-BCE9-8C0FE3FD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7CFE0-F32F-4107-80BD-DA444765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43927-5B32-481F-8F49-C0E41496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C567C-C9F9-4D5F-B04F-EF89498C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F038D-8C3D-4156-B00F-9FC7DE53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3727B-6CF4-444E-A937-3B1DAAA9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B0D77-69CE-4D29-85BF-5AD15368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74B2C-A475-4BF0-AA42-FF11B6A6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BD838-93B4-4372-8026-EC5690C7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DE1-EE72-4F4F-9818-37F95228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F529A-F2DF-4E8A-B740-152E4278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9753D-BFFD-4A55-9185-2A5C30ED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A964A-721E-4BE1-BCAD-FAE21B2A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BBB99-42AB-44EA-925D-DB23427C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69D38-1790-40E0-BFE2-BABB632F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FDE02-3EF0-4EEA-8C3D-88CD4E4B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9C37F-63F0-46CB-BAED-B5DD89F2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43179-2EA6-4D98-A115-B28321AC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521E4-197F-45C1-8FBE-BF0E4FFC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CBA1F-A5F0-4F5F-A85B-8A9BCABC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FC5D-2695-4711-BAFD-CDBA6AC56F2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F25FB482-6F78-4F3F-B883-F9C76E21D97F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9F5C-2BD2-4664-9FF2-754A90DDC700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B6C2-2227-4CDE-9955-E640D67E1CA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497E6769-E3F3-4840-87BE-040E577E7A96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0411-C5CA-434F-A730-A6D1AA9E161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B103-74E1-4519-BF26-CC55088FE13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D7993CBD-6628-452D-A793-1D579FAEDD46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E605-6F08-4585-BB73-A2E52F14A998}" type="slidenum"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5FC3-A3B2-4C57-8B75-DFF0EC661895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A95AC59D-6371-4C65-B487-0C7F9CDE9073}" type="datetime10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8:19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3BA5-8521-47B0-B9BE-81C924056068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5C32-9DDB-4EB0-A04B-9779E92E027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718A7407-B9DF-483D-80FD-5CB4F9753077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D05A-00CA-40D3-9857-F4F810946F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44A2-B4C6-4626-B98C-169D7ED6E61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04027A56-1D45-4C55-ADC9-12490C546BFA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7C48-FC6B-47DE-9F7F-2E8257A298F1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BB9B-9670-4E0E-B64F-E7DEF0CA540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65DB24D1-DFDD-4CBF-843D-58849E18E3B0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E7B1-102F-4EFA-A4CD-DEBEF58634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A0EF-F89E-439B-8B19-CF05E76B6766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58126BDD-0F05-4D77-935E-4BB928314FA5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1F64-8F80-43D2-AD77-0907075A2E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D53A-468E-4703-89F4-06CB3F7CF8C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66074729-3F1D-4798-965F-D38C06B08AFC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2495-08EC-4C6D-823C-038F63CC02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ADC9-3A36-49B7-B786-2312E7A776D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359D73EA-0CB7-4C28-A768-C757C2E2BB88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1682-3F2F-44AB-AB9E-E57E3A5FB156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d2cb6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95a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65D1-21A7-4FAB-B52E-39B0439D246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 </a:t>
            </a:r>
            <a:fld id="{F57A2E98-F309-40F1-95FF-8E4136898F08}" type="datetime10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18:1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B796-2E03-496E-AACB-C3760F83F5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42960" y="1557360"/>
            <a:ext cx="64771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sl-SI" sz="4500" spc="-1" strike="noStrike">
                <a:solidFill>
                  <a:srgbClr val="eeece1"/>
                </a:solidFill>
                <a:latin typeface="Tw Cen MT"/>
              </a:rPr>
              <a:t>Javno naročanje v Sloveniji in ukrepi za njegovo učinkovitost</a:t>
            </a:r>
            <a:r>
              <a:rPr b="0" lang="en-GB" sz="4500" spc="-1" strike="noStrike">
                <a:solidFill>
                  <a:srgbClr val="eeece1"/>
                </a:solidFill>
                <a:latin typeface="Tw Cen MT"/>
              </a:rPr>
              <a:t>  </a:t>
            </a:r>
            <a:endParaRPr b="0" lang="en-US" sz="45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3203280" y="6049440"/>
            <a:ext cx="5864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Direktorat za javno naročanj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w Cen MT"/>
              </a:rPr>
              <a:t>Maja Koković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6443640" y="53006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točec,  21. 5. 2014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0" y="6016680"/>
            <a:ext cx="30862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Visoka raven transparentnosti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zke mejne vrednosti za objave (20.000 EUR za blago in storitve, 40.000 EUR za gradnje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o javno odpiranje ponudb in možnost vpogleda v ponu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objava “Prostovoljnega” obvestila za predhodno transparentnost v postopkih s pogajanji brez predhodne objav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napoved zadnjega kroga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javljanje obvestil o izvajanju okvirnih sporazum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vseh udeleženih v postopku o predvidenem izboru ponudnika za večjo transparentnost o morebitnem  konfliktu intereso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eznanitev nadzornega organa naročnika o sklenitvi aneksa, zavrnitvi vseh ponudb, odstopu od izvedbe naročil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malu objava ključnih delov JN pogodbe na portalu javnih naroč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900" spc="-1" strike="noStrike">
                <a:solidFill>
                  <a:srgbClr val="000000"/>
                </a:solidFill>
                <a:latin typeface="Tw Cen MT"/>
              </a:rPr>
              <a:t>Poenostavitve in fleksibilnost postopkov J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d mejnimi vrednostmi EU en postopek z objavo povpraševanja na portalu javnih naročil in možnostjo vključitve pogajanj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roki niso izrecno določen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ajprej razvrstitev ponudb, nato preveritev najugodnejše, če to omogoča potek postopka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uporaba do 4 mesece starih dokazil iz prejšnjih postopkov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okazila iz uradnih evidenc mora pridobiti naročnik in jih ne sme zahtevati od ponudnika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onudniki lahko predložijo zgolj lastno izjavo, naročnik naknadno pozove k predložitvi dokazil le najugodnejšega ponud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dela na gradbišču lahko tečejo nemoteno kljub nezaključenim pogajanjem o dodatnih gradbenih delih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osebnosti nacionalne ureditve     III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Od formalizmov k vsebini in odpiranju trga J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naliza trga kot podlaga za določitev ocenjene vrednosti JN in zagotovljenih sredstev (razvid izračuna ocenjene vrednosti,  obvezna opredelitev vrednosti in roka veljavnosti pogodbe)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dprava računskih napak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ožnost odprave formalnih pomanjkljivosti in napak v ponudbi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max. delež dodatnih storitev ali gradenj 30 %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JN - instrument za doseganje ciljev okoljske, socialne in gospodarske politik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Integriteta, odgovornost in nadzor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oti-korupcijska klavzula in letno poročanje Komisiji za preprečevanje korupcije o premoženju sodelujočih v postopkih javnega naročanj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62680" indent="-2401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rški v primeru kršitev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Uvedba e-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osje ponudnika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za takojšnje preverjanje ponudb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sistem bo povezan z uradnimi evidencami in omogočal deponiranje certifikatov, referenc in drugih dokazil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dražb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bvezna v primeru nesprejemljivih ponudb;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oddaja ponudbe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nižji stroški postopka JN za ponudnika in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interni postopek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aplikacija za upravljanje, vodenje in sledljivost postopkov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w Cen MT"/>
              </a:rPr>
              <a:t>E-računi in e-plači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Pravno varstvo pri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kluzivni rok za zahtevke za revizijo zoper razpisno dokumentac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o morebitnih napakah v razpisni dokumentaciji mora potencialni ponudnik preko portala javnih naročil obvezno opozoriti naročnika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kljub vloženem zahtevku za revizijo se postopek javnega naročanja lahko nadaljuje, naročnik pa ne sme skleniti pogodbe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taksa za predrevizijski in revizijski postopek je relativno visoka, vendar upošteva načelo sorazmernosti (predmet naročanja, vrednost naročila, sklopi)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avno varstvo se lahko uveljavlja le zoper bistvene kršitve v postopku JN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prednostna obravnava zahtevkov za revizijo, ki se nanašajo na naročila, sofinancirana s sredstvi EU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w Cen MT"/>
              </a:rPr>
              <a:t>izjemo kratki roki v predrevizijskem in revizijskem postopku ter avtomatično nadaljevanja pravnega varstva pred Državno revizijsko komisijo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284720" cy="38037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1f497d"/>
                </a:solidFill>
                <a:latin typeface="Tw Cen MT"/>
              </a:rPr>
              <a:t>Za učinkovitejši sistem JN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Zakonodaj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Oddaja javnih naročil v praks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Spremljanje stanja in nadzo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Povratna informacija in usposabljanj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936720" cy="1006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imagesCAQWGSER"/>
          <p:cNvPicPr/>
          <p:nvPr/>
        </p:nvPicPr>
        <p:blipFill>
          <a:blip r:embed="rId3"/>
          <a:stretch/>
        </p:blipFill>
        <p:spPr>
          <a:xfrm>
            <a:off x="1403280" y="4221000"/>
            <a:ext cx="2413080" cy="1598760"/>
          </a:xfrm>
          <a:prstGeom prst="rect">
            <a:avLst/>
          </a:prstGeom>
          <a:ln w="0">
            <a:noFill/>
          </a:ln>
        </p:spPr>
      </p:pic>
      <p:sp>
        <p:nvSpPr>
          <p:cNvPr id="508" name="PoljeZBesedilom 8"/>
          <p:cNvSpPr/>
          <p:nvPr/>
        </p:nvSpPr>
        <p:spPr>
          <a:xfrm>
            <a:off x="2340000" y="616572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Tw Cen MT"/>
              </a:rPr>
              <a:t>Hvala za pozornost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8:55:39Z</dcterms:created>
  <dc:creator/>
  <dc:description/>
  <dc:language>en-US</dc:language>
  <cp:lastModifiedBy/>
  <dcterms:modified xsi:type="dcterms:W3CDTF">2014-05-20T10:26:12Z</dcterms:modified>
  <cp:revision>5</cp:revision>
  <dc:subject/>
  <dc:title>SPREMEMBE NA PODORČJU JAVNEGA NAROČANJA (ZJBN-2D, ZJVETPS-D, ZJNPOV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259990</vt:lpwstr>
  </property>
</Properties>
</file>